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4D65-A08F-4714-8B49-D5DF181EB1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витие нравственных качеств ребёнка в младшем школьном возраст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«Нравственное воспитание детей – то мудрое ограничение. Ребёнок должен понять, что есть три вещи: можно, нельзя и над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.А. Сухомли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CE8E-6E9E-4FA8-8D80-E2AB62D110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Я плачу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ьют (ремнём)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естра не даёт смотреть телевиз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ругают, обижают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ад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кого-то жал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Я переживаю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страшно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то-то умир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ма и папа долго на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т дру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ходит (уезжает) мама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плачу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Я обижа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руг рассказывает мой секрет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обижают, бьют –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гда мама бь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Мне стыдно, ког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не помогаю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учу двой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ривля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ью па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проигрыв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не бывает сты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Мне страшно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мно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й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ле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ма ух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то-то смотрит в ок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Я бо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тре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адаю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траш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мно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огда остаюсь один д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пуг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Я зл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меня бью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рвнич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дразнят, трогаю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Я хочу драться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обидят, бьют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 улице деру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икогда не хо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F54B-7175-4892-BE33-BDCBB691D2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ты помочь человеку в бе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8, не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кого-нибудь ударить намерен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0, нет –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кого-нибудь незаслуженно обиде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– 1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сказать неправду о другом челове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1, нет –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 ли быть чест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4 нет –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у тебя прозвищ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– 5, да –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ы к нему относишь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равится –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тебя чаще обиж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– 5 Никто –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18E8-79F5-4272-B24B-DE7695BEC3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нравственного воспитания в семье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Родители должны предъявлять единые требования к ребён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Основы трудолюбия должны закладываться с де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 Ребёнок нуждается в ласке, похва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 Уважительного отношения членов семьи друг к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) В семье должно быть правильное и равномерное распределение материальных и моральных средств для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ВОД: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Если эти законы в семье пополняются, значит, ребёнок состоится как лич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3FFA-22BC-4854-9FE0-D84A9D1B61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217D-7E76-438D-B794-A7FE9613AE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равственность любого ребёнка начинается в семье. Воспитание доброты, честности, справедливости, правдивости может быть в семье, где царит здоровая нравственная атмосфера, в которой не допускается лицемерие, ложь, нечестность и фальшь в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равственность ребёнка возможна там, где нет лжи, где существует вера друг в друга, тепло и добро дома, где в случившимся с тобой несчастье тебя не обвиняют, а поддерживают. Но поддержка должна быть правдивая, честная, справедлив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нравственного воспитания – правдивость и объективность семьи, отсутствие у ребёнка боязни за то, что он сделал что-то не так. Ребёнок должен не бояться,  а стыдиться за свой плохой поступок, переживать из-за него, мучиться и страдать, чтобы подобное никогда не произошло с н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D3D8-1FA8-4B5B-B504-843B16C281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классник Вова увидел у подъезда своего дома санки. Улучив момент, когда во дворе никого не было, он взял санки и принёс домой. Возвратившись с работы, мать спросила сына: «Откуда появились санки в квартире?» «Я их во дворе нашёл», - ответил без смущения Во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ой должна быть реакция матери на ответ сы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бы вы поступи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E5CA-1E04-4D64-914B-0CB0FD6338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2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еклассник Миша возвратился домой в слезах, с окровавленными губами. «Кто тебя избил?» - спросила испуганная мама. «Валерка», - всхлипывая произнёс мальчик. Мама хорошо знала Валеру, он не раз играл у них в доме с Мишей. Но обида за побитого сына охватила её. Она выбежала на улицу, увидела Валеру среди мальчиков и, подбегая к детям, закричала: «Ах ты, негодяй! Что ты позволяешь себе бандитские выходки?!» «Он первым стал задираться», - пытался оправдаться Валера, убегая от матери Миши. Ребята, видевшие драку мальчишек, наперебой заговорили: «Ваш Миша первым полез!» «А как он Игорю нос разбил, вы забыли?» «Он сам виноват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может отразиться на развитии нравственных качеств Володи, на отношении к нему сверстников поступок его матер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бы вы поступили в подобной ситу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354B-5FDD-4B24-8AAD-EBC76ADC19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3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я росла в семье болезненным ребёнком. Ей всегда отдавали самое лучшее из еды. Однажды, увидев выбегающую на улицу дочь с апельсином в руке, мать приказала: «Смотри, сама ешь, никому не давай!» Таня вышла на улицу и в присутствии подружек начала очищать апельсин. Девочки молча, наблюдали за ней. Одна из них не выдержала и попросила дольку. «Не дам, - отозвалась Таня. – У нас их мало, и мама только мне позволяет их есть». «Жадина», - сказала девочка. «Жадина – говядина» - закричали другие. Но Таня спокойно доела апельс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ходилось ли вам наблюдать похожие ситу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ава ли была мать, наказав дочери никому не давать апельси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ие отрицательные качества могут развиться у девочки в результате такого воспит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21F1-2EC6-4E9B-A739-4AC8024959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ий школьный возраст – время интенсивного приобретения ребёнком социальных знаний, которые включают в себя усвоение общественных норм и правил, а также способов действий в различных ситуациях. Именно в начальной школе дети учатся принимать в расчёт нюансы дружбы и авторитета, учитывать множество предписаний и прави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этот период времени родителям стоит задуматься о том, насколько ваш ребёнок может уживаться в коллективе, каково ему среди детей, какое значение он имеет для коллектива и может ли коллектив обходиться без н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присмотреться и прислушаться к ребёнку: что он говорит о школе, своих сверстниках, переживает ли он, если совершил какой-то неблаговидный поступок; радуется ли когда оказывается помощь другому человеку и способен ли сам кому-нибудь помо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9FBB-C995-4FC5-95DA-3ED5706504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воспит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в этот период времен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в ребёнке нравственную ответствен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свои поступки, дела перед близкими, окружающими, обще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щедрость и бескорыс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гативное отношение к жадности и корыстолюб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ребёнк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чувства удовлетворения о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ого, что он дела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орошие де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носит польз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ким, окружающим, радует 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брыми поступк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т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держку, сдержанность и терпим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некоторым человеческим качест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учить ребёнка понимать душевное состояние другого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его боль, тревоги, оказывать бескорыстную помощь и поддержку, быть чутким и внимательным, отзывчивым и сердеч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будить у ребёнка потребность заботиться о друг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носить им пользу, радоваться их успех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обходимо воспитывать у детей скром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егативное отношение к хвастовству, зазнайству, высокомер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24B9-0286-4706-BF94-589E2381B2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родител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имая сказка ребён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олуш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Алёша Попович и Тугарин зм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ие народные сказки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юбимый филь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эппи – длинный чул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ловек – паук»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апины доч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ешари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Астерикс и Викинг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Железный челов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анет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Любимая телепередач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алилео»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анцы со звёздам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роси у Всезнаму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койной ночи, малыш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Любимый гер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на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ун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-паук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ки Ч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го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Любимая кни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Энциклопедии -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Приключения барона Мюнхаузена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Тысяча и одна ночь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Карамелька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ключения Незнайки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Любимая компьютерная иг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Винкс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Алик идёт в школу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Кузя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онки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Хотите оградить ребёнка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дурного влияния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плохих компаний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неадекватных люде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наркотиков, сигарет и спиртных напитк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произвол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Хотите предостеречь ребёнка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необдуманных поступк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всего плохого, от опасности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спиртного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ите обезопасить ребёнка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насил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наркотик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загрязнения экологи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всего плохого(многого)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пытаетесь это сдел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с помощью бесед -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примеров из жизни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разъясняем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читаем книг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общаемс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воспитываем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4B59-B3E4-4A36-9C27-F6426FDDB0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детей 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Я раду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упа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учаю «5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ядом со мной друг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ветит солнце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хожусь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таюсь на роли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граю в компьютер и телеф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ду гу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Я сме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игр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ядом б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щекочут –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мешно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 друзь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вес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ижу грязного мальч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Я весел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  дискоте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нь рождения, праздник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ешаю ша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ядом др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цир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граю, гуляю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Я горжу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учаю хорошую оце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пускают кататься с го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ам чит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хваля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делаю подел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могаю, спасаю кого-нибудь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3220-4606-4EF0-AAD5-D7BD64544D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14A2-E9CA-4202-999C-4CB6EB3A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EB1-D452-42C3-9EB3-C700C81F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9170-A307-4B89-ACA8-C77912DA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A39A-F393-44A1-8815-3A14B0FA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23C6-C634-46DB-B8FB-820874A9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323B-66BE-4693-9EF9-E2E50133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484F-B077-4EBC-8068-5E846AFD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E74B-C419-4A8B-AF05-FA4F246A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FB80-FA28-463C-84FC-ECB551A8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D78B-B391-4703-909B-BD695481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68D7-A073-41B9-BDC5-4AA30E9E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7EB7-D382-4426-B95E-5E822572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B584-6904-42CC-8205-5697D211FBC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7E6A-0404-4499-A309-31AEDD35D2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Развитие нравственных качеств ребёнка в младшем школьном возраст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0200" y="3785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f497d"/>
                </a:solidFill>
                <a:latin typeface="Calibri"/>
              </a:rPr>
              <a:t>«Нравственное воспитание детей – то мудрое ограничение. Ребёнок должен понять, что есть три вещи: можно, нельзя и надо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f497d"/>
                </a:solidFill>
                <a:latin typeface="Calibri"/>
              </a:rPr>
              <a:t>В.А. Сухомлинск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5" descr="семейное восп..jpg"/>
          <p:cNvPicPr/>
          <p:nvPr/>
        </p:nvPicPr>
        <p:blipFill>
          <a:blip r:embed="rId1"/>
          <a:stretch/>
        </p:blipFill>
        <p:spPr>
          <a:xfrm>
            <a:off x="142920" y="4714920"/>
            <a:ext cx="2449440" cy="18907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50004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5. Я плачу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ьют (ремнём)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сестра не даёт смотреть телевизор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ругают, обижают – 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пад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не кого-то жалк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6. Я переживаю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не страшно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то-то умирае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ама и папа долго на работ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ет друзе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уходит (уезжает) мама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плачу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7. Я обижаюсь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друг рассказывает мой секрет –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обижают, бьют – 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огда мама бьё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8. Мне стыдно, когд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не помогаю –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получу двойк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ривляюс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ью пап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проигрыв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не не бывает стыд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50004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9. Мне страшно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темно - 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войн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леч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ама уходи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то-то смотрит в ок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0. Я боюсь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стреляю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падаю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страш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темно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когда остаюсь один дом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пугаю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1. Я злюсь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меня бьют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ервнич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дразнят, трогают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2. Я хочу драться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обидят, бьют – 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а улице дерутся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икогда не хоч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4" descr="post-5450-1181480382.jpg"/>
          <p:cNvPicPr/>
          <p:nvPr/>
        </p:nvPicPr>
        <p:blipFill>
          <a:blip r:embed="rId1"/>
          <a:stretch/>
        </p:blipFill>
        <p:spPr>
          <a:xfrm>
            <a:off x="6559560" y="4714920"/>
            <a:ext cx="2228760" cy="17622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кета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ты помочь человеку в бе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8, нет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кого-нибудь ударить намеренн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0, нет – 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кого-нибудь незаслуженно обиде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т – 1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сказать неправду о другом человек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1, нет – 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удно ли быть честны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4 нет – 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ть ли у тебя прозвищ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т – 5, да – 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ты к нему относишьс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нравится – 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то тебя чаще обижает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и – 5 Никто – 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5" descr="литература.gif"/>
          <p:cNvPicPr/>
          <p:nvPr/>
        </p:nvPicPr>
        <p:blipFill>
          <a:blip r:embed="rId1"/>
          <a:stretch/>
        </p:blipFill>
        <p:spPr>
          <a:xfrm>
            <a:off x="6143760" y="4143240"/>
            <a:ext cx="2334960" cy="18147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коны нравственного воспитания в семь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1) Родители должны предъявлять единые требования к ребёнк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2)Основы трудолюбия должны закладываться с дет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3) Ребёнок нуждается в ласке, похвал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4) Уважительного отношения членов семьи друг к друг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5) В семье должно быть правильное и равномерное распределение материальных и моральных средств для дет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ВЫВОД: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 Если эти законы в семье пополняются, значит, ребёнок состоится как личност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5" descr="2.gif"/>
          <p:cNvPicPr/>
          <p:nvPr/>
        </p:nvPicPr>
        <p:blipFill>
          <a:blip r:embed="rId1"/>
          <a:stretch/>
        </p:blipFill>
        <p:spPr>
          <a:xfrm>
            <a:off x="3429000" y="2000160"/>
            <a:ext cx="1695600" cy="22478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85840" y="5713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равственность любого ребёнка начинается в семье. Воспитание доброты, честности, справедливости, правдивости может быть в семье, где царит здоровая нравственная атмосфера, в которой не допускается лицемерие, ложь, нечестность и фальшь в отношения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равственность ребёнка возможна там, где нет лжи, где существует вера друг в друга, тепло и добро дома, где в случившимся с тобой несчастье тебя не обвиняют, а поддерживают. Но поддержка должна быть правдивая, честная, справедлива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снова нравственного воспитания – правдивость и объективность семьи, отсутствие у ребёнка боязни за то, что он сделал что-то не так. Ребёнок должен не бояться,  а стыдиться за свой плохой поступок, переживать из-за него, мучиться и страдать, чтобы подобное никогда не произошло с ним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я 1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рвоклассник Вова увидел у подъезда своего дома санки. Улучив момент, когда во дворе никого не было, он взял санки и принёс домой. Возвратившись с работы, мать спросила сына: «Откуда появились санки в квартире?» «Я их во дворе нашёл», - ответил без смущения Вов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Какой должна быть реакция матери на ответ сын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Как бы вы поступил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я 2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785880"/>
            <a:ext cx="84009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ретьеклассник Миша возвратился домой в слезах, с окровавленными губами. «Кто тебя избил?» - спросила испуганная мама. «Валерка», - всхлипывая произнёс мальчик. Мама хорошо знала Валеру, он не раз играл у них в доме с Мишей. Но обида за побитого сына охватила её. Она выбежала на улицу, увидела Валеру среди мальчиков и, подбегая к детям, закричала: «Ах ты, негодяй! Что ты позволяешь себе бандитские выходки?!» «Он первым стал задираться», - пытался оправдаться Валера, убегая от матери Миши. Ребята, видевшие драку мальчишек, наперебой заговорили: «Ваш Миша первым полез!» «А как он Игорю нос разбил, вы забыли?» «Он сам виноват!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Как может отразиться на развитии нравственных качеств Володи, на отношении к нему сверстников поступок его матер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Как бы вы поступили в подобной ситуаци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4.gif"/>
          <p:cNvPicPr/>
          <p:nvPr/>
        </p:nvPicPr>
        <p:blipFill>
          <a:blip r:embed="rId1"/>
          <a:srcRect l="0" t="0" r="9222" b="0"/>
          <a:stretch/>
        </p:blipFill>
        <p:spPr>
          <a:xfrm>
            <a:off x="7000920" y="4572000"/>
            <a:ext cx="1641600" cy="1838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я 3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аня росла в семье болезненным ребёнком. Ей всегда отдавали самое лучшее из еды. Однажды, увидев выбегающую на улицу дочь с апельсином в руке, мать приказала: «Смотри, сама ешь, никому не давай!» Таня вышла на улицу и в присутствии подружек начала очищать апельсин. Девочки молча, наблюдали за ней. Одна из них не выдержала и попросила дольку. «Не дам, - отозвалась Таня. – У нас их мало, и мама только мне позволяет их есть». «Жадина», - сказала девочка. «Жадина – говядина» - закричали другие. Но Таня спокойно доела апельсин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риходилось ли вам наблюдать похожие ситуации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рава ли была мать, наказав дочери никому не давать апельсин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Какие отрицательные качества могут развиться у девочки в результате такого воспитания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ладший школьный возраст – время интенсивного приобретения ребёнком социальных знаний, которые включают в себя усвоение общественных норм и правил, а также способов действий в различных ситуациях. Именно в начальной школе дети учатся принимать в расчёт нюансы дружбы и авторитета, учитывать множество предписаний и правил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 в этот период времени родителям стоит задуматься о том, насколько ваш ребёнок может уживаться в коллективе, каково ему среди детей, какое значение он имеет для коллектива и может ли коллектив обходиться без нег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ажно присмотреться и прислушаться к ребёнку: что он говорит о школе, своих сверстниках, переживает ли он, если совершил какой-то неблаговидный поступок; радуется ли когда оказывается помощь другому человеку и способен ли сам кому-нибудь помоч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 воспита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жно в этот период времен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в ребёнке нравственную ответствен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свои поступки, дела перед близкими, окружающими, обществ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щедрость и бескорыст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негативное отношение к жадности и корыстолюб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 ребёнк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чувства удовлетворения о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ого, что он делае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ошие дел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иносит пользу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лизким, окружающим, радует их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обрыми поступкам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ть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ыдержку, сдержанность и терпим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некоторым человеческим качеств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жно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учить ребёнка понимать душевное состояние другого челове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его боль, тревоги, оказывать бескорыстную помощь и поддержку, быть чутким и внимательным, отзывчивым и сердеч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обудить у ребёнка потребность заботиться о други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риносить им пользу, радоваться их успех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еобходимо воспитывать у детей скром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негативное отношение к хвастовству, зазнайству, высокомери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кета родителей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840" y="785520"/>
            <a:ext cx="32860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юбимая сказка ребёнка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Золушк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Алёша Попович и Тугарин змей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усские народные сказки –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Любимый филь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эппи – длинный чуло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Человек – паук» -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апины доч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мешари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Астерикс и Викинг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Железный челове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Ранет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Любимая телепередач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Галилео» -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Танцы со звёздами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проси у Всезнамус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покойной ночи, малыш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Любимый геро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знай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нцес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унти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тме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еловек-паук -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жеки Ч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угов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357440" y="428400"/>
            <a:ext cx="406692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  Любимая книг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циклопедии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иключения барона Мюнхаузе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ысяча и одна ноч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арамель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ючения Незнай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Любимая компьютерная игр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инк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Алик идёт в школ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уз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нки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 Хотите оградить ребёнка о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урного влияния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лохих компаний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еадекватны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аркотиков, сигарет и спиртных напи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оизв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 Хотите предостеречь ребёнка о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обдуманных поступ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всего плохого, от опасности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спирт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отите обезопасить ребёнка о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си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ркот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грязнени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сего плохого(многого)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 вы пытаетесь это сделать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 помощью бесед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меров из жизни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ъясняем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итаем кн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аем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ываем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кета детей 1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785880"/>
            <a:ext cx="40384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Я радую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упаю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лучаю «5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ядом со мной друг-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ветит солнце –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хожусь в шк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атаюсь на роли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граю в компьютер и телеф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ду гуля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Я смею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игра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ядом бр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еня щекочут –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мешно 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 друзь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не весе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ижу грязного мальч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00720" y="713880"/>
            <a:ext cx="43574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Я веселю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на  дискоте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ень рождения, праздник -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ешаю шар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ядом дру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 цир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граю, гуляю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Я горжу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лучаю хорошую оцен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тпускают кататься с гор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ам чита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еня хвалят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делаю подел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могаю, спасаю кого-нибудь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4" descr="22M6.gif"/>
          <p:cNvPicPr/>
          <p:nvPr/>
        </p:nvPicPr>
        <p:blipFill>
          <a:blip r:embed="rId1"/>
          <a:stretch/>
        </p:blipFill>
        <p:spPr>
          <a:xfrm>
            <a:off x="7786800" y="1928880"/>
            <a:ext cx="1160280" cy="928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baby21.gif"/>
          <p:cNvPicPr/>
          <p:nvPr/>
        </p:nvPicPr>
        <p:blipFill>
          <a:blip r:embed="rId2"/>
          <a:stretch/>
        </p:blipFill>
        <p:spPr>
          <a:xfrm>
            <a:off x="5929200" y="5214960"/>
            <a:ext cx="1285920" cy="12477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21:36:40Z</dcterms:created>
  <dc:creator>Ольга</dc:creator>
  <dc:description/>
  <dc:language>en-US</dc:language>
  <cp:lastModifiedBy>LEGION</cp:lastModifiedBy>
  <dcterms:modified xsi:type="dcterms:W3CDTF">2015-01-27T12:01:26Z</dcterms:modified>
  <cp:revision>8</cp:revision>
  <dc:subject/>
  <dc:title>Развитие нравственных качеств ребёнка в младшем школьном возрасте</dc:title>
</cp:coreProperties>
</file>